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B3B1-E184-4290-9322-0625D5C82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1795-D705-4615-B2ED-3C7F900B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9882-ADAB-475F-B711-FB79F3FA1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3E28-1035-460A-B462-007C27C6C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A7A8-08CD-4D77-B8B9-D1F2C9DF2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A87B-E472-4873-A347-FEBE8C7A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4CA27-D124-4E92-BC4E-CF96C7EA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DAC4-FB52-46C3-A234-BCD1F350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793C-860C-4CEC-A293-5442BE65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1BC4-5D58-4EEA-895D-8C04CC60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2AD5-46CF-4623-8E2A-5EF55729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6D05-95DE-459B-879E-4F2A4DF1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37446-2F26-43E1-8C8C-8F1A5A3A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B99D-025A-462F-8DB5-A06D9065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23072-8B37-4EDF-8FE8-7D0EC37B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8AD5-127B-4B53-9007-08A7F559D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91982-588A-4D46-B062-21F82C216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CE4EE-93B5-4AA1-B980-90100A607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C3A54-411E-4BBC-862F-B0541AE1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DE8F3-2F39-438D-9A3C-D8118E17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FFC2D-A57C-4347-B0A9-02048E30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BA8EC-ABB7-449B-A4DA-5BC47D9B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6C9A-CDD0-46C8-90C7-BB907710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73540-C10F-4A15-A034-C1D6737B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76012-6E69-44C5-A2B9-3BAB949A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66A2D-D215-498B-8E1C-2C465E13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BD827-20A6-4F40-BDCE-B88F6A31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8AD22-9C10-49AC-A636-FA5D10C3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71BDA-AD31-4D86-BC96-5DB40F994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44835-7795-4541-901E-1EC2683CB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66B38-DEF0-40F2-BC92-9700EA607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2F7FB-311F-48B9-8219-9D3F63D7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DBF36-7A02-42CB-95C5-27C99126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9062-1418-4EB7-AC36-DAADF5F2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1B0D3-0E4B-4353-B729-6E4132F8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A8027-0B0C-4F4E-9F6F-BA935DF1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7D643-B686-45E7-9077-66FD818B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14210-54CD-41EF-BC05-39E0F214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EA9FB-7A36-41E8-A2ED-FC0AC33F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B87A5-10C1-4163-AC97-0866503B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46375-6120-4581-9534-8126ED90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70B55-4134-47F5-910D-162F585F2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2E89F-F4B6-4204-803C-FD66EFFAF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68B1A-12FE-430E-A602-6DF5D2866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BF4A-47DF-4528-AEC1-160CAB36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BC609-8EE7-406A-82C9-DFD453DA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510E0-B0E4-455E-9E10-CAC03B75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B554B-312A-4F93-B4B8-060A8303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5F9B7-F9DD-462E-B3D4-3553503D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7E6AF-CFBB-43FA-B93E-4F7FD30E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D1668-EE88-4077-8DBA-2128BBC3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4BFF0-73FA-4899-AFDF-45C50954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454E6-4D7A-41AA-816B-6BEE93A5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8C3EC-7C86-4A9F-91EE-010FA044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02F45-4CBD-4A81-A530-15283C2D1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62BE-C6D4-49B8-81BD-79CA5663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C3D7D-23ED-4B16-BB7D-7B7C5E144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3E074-F169-4D75-9DFC-D6C1706A9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C8426-9BBC-4C86-AEF4-DD73C0ED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118CB-8D25-4F15-A67C-32B84139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B6562-07FD-4888-9A26-D1B7BF58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40A77-0DAE-465D-8F97-B10E85F3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B0CBA-A92B-4482-AD05-6CC441DE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7E569-FFE2-493D-8902-8C478555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88A4D-C782-4F10-84F9-9E973CA7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EB64B-8DD9-4251-9FDC-18A0AB46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0117-3CDE-40ED-BA41-7BBD1BEA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17249-7CE3-46DE-A025-C7DA8241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52840-B495-4152-940B-4CCE2881C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7CEE3-E0DB-4996-A0B1-00F56B324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E13F-C021-438A-98BD-6ED67F64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5BEC-9D01-461B-85A6-A0B72895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3898-F2E0-452B-9E6D-12975FABDB0C}" type="slidenum">
              <a:rPr b="0" lang="en-PH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E1BD-5A6C-4E9F-AF03-61C5E176DB6C}" type="slidenum">
              <a:rPr b="0" lang="en-PH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8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D389-7D28-4C72-B5C6-E5D024E332D8}" type="slidenum">
              <a:rPr b="0" lang="en-PH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7A4A-9DFC-42BE-A111-2AB8664C6DC8}" type="slidenum">
              <a:rPr b="0" lang="en-PH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2EDB-4DD7-41E8-A673-3C94F58B4552}" type="slidenum">
              <a:rPr b="0" lang="en-PH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ADFC-1298-44A2-A867-5E755170BB8B}" type="slidenum">
              <a:rPr b="0" lang="en-PH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384120" y="298440"/>
            <a:ext cx="7705800" cy="1158840"/>
          </a:xfrm>
          <a:prstGeom prst="rect">
            <a:avLst/>
          </a:prstGeom>
          <a:ln w="0">
            <a:noFill/>
          </a:ln>
        </p:spPr>
      </p:pic>
      <p:pic>
        <p:nvPicPr>
          <p:cNvPr id="255" name="Diagram 2" descr=""/>
          <p:cNvPicPr/>
          <p:nvPr/>
        </p:nvPicPr>
        <p:blipFill>
          <a:blip r:embed="rId2"/>
          <a:stretch/>
        </p:blipFill>
        <p:spPr>
          <a:xfrm>
            <a:off x="603360" y="1133640"/>
            <a:ext cx="8089920" cy="5578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600" spc="-1" strike="noStrike">
                <a:solidFill>
                  <a:srgbClr val="ffffff"/>
                </a:solidFill>
                <a:latin typeface="Franklin Gothic Book"/>
              </a:rPr>
              <a:t>WHY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000" spc="-1" strike="noStrike">
                <a:solidFill>
                  <a:srgbClr val="ffffff"/>
                </a:solidFill>
                <a:latin typeface="Arial"/>
              </a:rPr>
              <a:t>Educational media is the core since it is more specific than the other terms. It refers to the books, magazines, newspapers, radio, TV, and interne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000" spc="-1" strike="noStrike">
                <a:solidFill>
                  <a:srgbClr val="ffffff"/>
                </a:solidFill>
                <a:latin typeface="Arial"/>
              </a:rPr>
              <a:t>Technological integration is the use of learning technologies to introduce, reinforce, supplement, and extend skill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000" spc="-1" strike="noStrike">
                <a:solidFill>
                  <a:srgbClr val="ffffff"/>
                </a:solidFill>
                <a:latin typeface="Arial"/>
              </a:rPr>
              <a:t>Instructional technology is a systematic way of designing, carrying out, and evaluating the total process of learning and teaching in terms of specific objectiv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000" spc="-1" strike="noStrike">
                <a:solidFill>
                  <a:srgbClr val="ffffff"/>
                </a:solidFill>
                <a:latin typeface="Arial"/>
              </a:rPr>
              <a:t>Technology in Education includes the application to food, health, finance, scheduling, grade, reporting, and other processes which support education within institution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1T13:06:22Z</dcterms:created>
  <dc:creator>Guest</dc:creator>
  <dc:description/>
  <dc:language>en-US</dc:language>
  <cp:lastModifiedBy>windee morta</cp:lastModifiedBy>
  <dcterms:modified xsi:type="dcterms:W3CDTF">2012-07-19T10:36:31Z</dcterms:modified>
  <cp:revision>7</cp:revision>
  <dc:subject/>
  <dc:title>Slide 1</dc:title>
</cp:coreProperties>
</file>